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437-F379-4CB4-B50E-E5CA1F66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8C6-6C30-44F8-9178-42AD848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6C8-558A-4A28-A054-8583AB7D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79D-5B29-40C9-986B-70F23FA3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9004-BA05-4179-BD3A-5958783E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7620-9BA8-4C65-B6E0-10F66C58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D893-4BEA-4440-AB39-8C8D0723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B728-1217-4C77-BA9B-BCAB789A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5F96-554C-4494-993C-B52A9935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0C8E-6A90-4BE4-B666-CE763C7D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9F57-21FB-4B1F-A725-268707FF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ECA-35DF-471A-B91B-C0C2D6D0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8718-2404-47DC-95CB-87ED967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64BE-DD22-47EC-A46B-936BB50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1BFA-5B81-4C0D-A90D-3564D2F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8557-5B45-467B-A5AF-D3B7E4FD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6762-487E-460B-9DA6-1E2321DD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40F53-BCB8-4CE6-8820-AD9EB26D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E266-4111-4280-B103-E8569760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9374F-D0AE-477D-8582-7E540122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69CF-7E93-4DEB-933A-5690C875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F30E-E917-4F06-B9B7-A4CA98BC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E5F-4FBF-4572-8E55-0F395327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FE90-D539-4861-8604-25070085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4EAC-4399-4690-9937-03539CB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C0D1-2738-423F-B206-1ECE0D3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E390-0BE2-44E3-9768-850E758E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6267-7239-4E58-8A40-0F390EA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EC51-67C2-456C-8F43-9E2099D6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FB2F-FDA7-449A-B0C1-E8985DDF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7997-339C-4D4F-A7CD-53C8911B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D0EF-8F35-412B-B3FE-A1899924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84EC-66FA-48D2-AA4C-32117AE2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BA5-48DA-46AC-AD80-2B5A0C9A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3F526-5B22-469C-9A63-9880C805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9B9AC-3EBB-453C-8016-21490CF4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24947-0AFC-41BA-A81A-1236722E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4885-544C-4F46-946D-4509567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40C5-EB27-4FD7-A2C0-77A21EEB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0979A-DEAE-445C-8EB8-3D5D75A7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F5AB-2D24-4384-B7D1-FAB3DAC0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6197-D96A-431B-8226-98FAAABA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8AC1-1E17-4F2B-A621-72E15F3D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D317F-2BAC-4349-B0CF-063B3BC0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08C-19A0-40DC-AE64-F2D6825A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DAAA-6B2C-4B09-AF58-162A36E0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F1918-BE8F-4DEE-B6A4-F3DD89DC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A0F9-BED5-43C3-ADDB-26B32030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5FB33-FA86-4B8B-9A9E-9DF71B62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DFA11-209F-428A-986B-C716385F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F8A84-92FB-4602-9CC0-43B4435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B414-9032-4B16-9BBB-804688D1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F737E-5168-4161-AB88-54CCCEA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08FA-F424-4F5C-90AC-8BBDB4E8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8DDF0-80AE-4214-A9F3-5447717A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E68-E3D0-4F5C-B53C-825DD8AE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2D543-ED40-4030-B7DE-30294085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5D04C-AE58-45E4-B9D4-00B74DD8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9F61-2BEC-4649-9F8F-292472FA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42996-1A5A-4EFE-AD2F-5DCB61D5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EB2D-9201-4375-AA21-C697AE88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EF509-8728-49EE-A816-24FF0C33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EC49-50C3-4175-9125-5604F22B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E76DE-1678-4244-BADF-9899C6A5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99168-601B-4F4A-B0CF-620FCC9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16A5D-B010-4FFB-8C09-DD5F80D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C58-2FBC-4917-A1A2-E18CEB1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B9B1-C56B-4D56-9ED8-43AF9984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8AFD3-A57D-4DED-A900-CB2EC3B6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C1A97-4D40-4117-874C-AE6291E6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806-31F7-4552-B34D-8EEADD4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061-B5D6-4FFA-8D3B-11157610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0BCD-63B7-4A67-8AE8-32652AF8C5B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E618-D153-4A46-8F15-C86B688E5B4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5E7C-6FC6-4245-A6EB-523199464FE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5B2F-70CF-4198-8B58-DC3D687467A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53B5-6887-4384-8F98-7CD78A67871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BB21-FBD6-4FF1-BE9F-7D846F4731E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324000" y="333360"/>
            <a:ext cx="8135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атематика уступает  свои крепости лишь сильным и смелым.       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             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А.П. Конфорови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5" descr="DSC05469555"/>
          <p:cNvPicPr/>
          <p:nvPr/>
        </p:nvPicPr>
        <p:blipFill>
          <a:blip r:embed="rId1"/>
          <a:stretch/>
        </p:blipFill>
        <p:spPr>
          <a:xfrm>
            <a:off x="324000" y="2637000"/>
            <a:ext cx="3527280" cy="28796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6"/>
          <p:cNvSpPr/>
          <p:nvPr/>
        </p:nvSpPr>
        <p:spPr>
          <a:xfrm>
            <a:off x="3924360" y="263700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Результат учения раве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произведению способ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на старательнос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Если старательность равна нулю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То и все произведение равно нулю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А способности есть у каждого</a:t>
            </a: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!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39640" y="4653000"/>
            <a:ext cx="784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“…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обенную важность имеют те методы науки, которые позволяют решать задачу, общую для всей практической деятельности человека: как располагать своими средствами для достижения наибольшей выгоды”.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фото ЧЕБЫШЕВ Пафнутий Львович"/>
          <p:cNvPicPr/>
          <p:nvPr/>
        </p:nvPicPr>
        <p:blipFill>
          <a:blip r:embed="rId2"/>
          <a:stretch/>
        </p:blipFill>
        <p:spPr>
          <a:xfrm>
            <a:off x="539640" y="333360"/>
            <a:ext cx="3497400" cy="403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56" name="Text Box 7"/>
          <p:cNvSpPr/>
          <p:nvPr/>
        </p:nvSpPr>
        <p:spPr>
          <a:xfrm>
            <a:off x="4427640" y="1052640"/>
            <a:ext cx="3887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бышев Пафнутий Львович (1821-1894), знаменитый русский математик, основатель Петербуржской математической школы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Плетенка"/>
          <p:cNvPicPr/>
          <p:nvPr/>
        </p:nvPicPr>
        <p:blipFill>
          <a:blip r:embed="rId2"/>
          <a:stretch/>
        </p:blipFill>
        <p:spPr>
          <a:xfrm>
            <a:off x="468360" y="1125360"/>
            <a:ext cx="3457440" cy="38102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395280" y="5229360"/>
            <a:ext cx="36734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йерштрасс Карл Теодор Вильгельм (1815-1897 гг.) - немецкий математи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24000" y="260280"/>
            <a:ext cx="504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Теорема Вейерштра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716360" y="1268280"/>
            <a:ext cx="3745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прерывная на отрезке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a;b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функция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f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инимает на этом отрезке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аибольшее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аименьшее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знач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99"/>
          <p:cNvPicPr/>
          <p:nvPr/>
        </p:nvPicPr>
        <p:blipFill>
          <a:blip r:embed="rId3"/>
          <a:stretch/>
        </p:blipFill>
        <p:spPr>
          <a:xfrm>
            <a:off x="5435640" y="5013360"/>
            <a:ext cx="2592360" cy="161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222"/>
          <p:cNvPicPr/>
          <p:nvPr/>
        </p:nvPicPr>
        <p:blipFill>
          <a:blip r:embed="rId2"/>
          <a:stretch/>
        </p:blipFill>
        <p:spPr>
          <a:xfrm>
            <a:off x="324000" y="985680"/>
            <a:ext cx="3887640" cy="35467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1"/>
          <p:cNvSpPr/>
          <p:nvPr/>
        </p:nvSpPr>
        <p:spPr>
          <a:xfrm>
            <a:off x="684360" y="4869000"/>
            <a:ext cx="77752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ли функци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(x)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возрастает (убывает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н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a;b]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то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наибольшег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наименьшег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значения она достигает на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нцах этого отрез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2" descr="2345"/>
          <p:cNvPicPr/>
          <p:nvPr/>
        </p:nvPicPr>
        <p:blipFill>
          <a:blip r:embed="rId3"/>
          <a:stretch/>
        </p:blipFill>
        <p:spPr>
          <a:xfrm>
            <a:off x="4859280" y="990720"/>
            <a:ext cx="37450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4"/>
          <p:cNvPicPr/>
          <p:nvPr/>
        </p:nvPicPr>
        <p:blipFill>
          <a:blip r:embed="rId2"/>
          <a:stretch/>
        </p:blipFill>
        <p:spPr>
          <a:xfrm>
            <a:off x="611280" y="925560"/>
            <a:ext cx="3960720" cy="3405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Копия шаблон"/>
          <p:cNvPicPr/>
          <p:nvPr/>
        </p:nvPicPr>
        <p:blipFill>
          <a:blip r:embed="rId3"/>
          <a:stretch/>
        </p:blipFill>
        <p:spPr>
          <a:xfrm>
            <a:off x="4859280" y="981000"/>
            <a:ext cx="4033800" cy="3362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9"/>
          <p:cNvSpPr/>
          <p:nvPr/>
        </p:nvSpPr>
        <p:spPr>
          <a:xfrm>
            <a:off x="611280" y="4797360"/>
            <a:ext cx="8208720" cy="17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f(х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отрезке [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лишь одну критическую точку и она является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точкой максимума (минимума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в этой точке функция принимает наибольшее (наименьшее) знач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max = f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иб. 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min = f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им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55"/>
          <p:cNvPicPr/>
          <p:nvPr/>
        </p:nvPicPr>
        <p:blipFill>
          <a:blip r:embed="rId2"/>
          <a:stretch/>
        </p:blipFill>
        <p:spPr>
          <a:xfrm>
            <a:off x="755640" y="333360"/>
            <a:ext cx="7415280" cy="4411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539640" y="5157720"/>
            <a:ext cx="784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ибольшего (наименьшего) значения непрерывная на </a:t>
            </a:r>
            <a:r>
              <a:rPr b="1" lang="ru-RU" sz="2000" spc="-1" strike="noStrike">
                <a:solidFill>
                  <a:srgbClr val="00cc00"/>
                </a:solidFill>
                <a:latin typeface="Verdana"/>
              </a:rPr>
              <a:t>[</a:t>
            </a:r>
            <a:r>
              <a:rPr b="1" i="1" lang="ru-RU" sz="2000" spc="-1" strike="noStrike">
                <a:solidFill>
                  <a:srgbClr val="00cc00"/>
                </a:solidFill>
                <a:latin typeface="Verdana"/>
              </a:rPr>
              <a:t>а</a:t>
            </a:r>
            <a:r>
              <a:rPr b="1" lang="ru-RU" sz="2000" spc="-1" strike="noStrike">
                <a:solidFill>
                  <a:srgbClr val="00cc00"/>
                </a:solidFill>
                <a:latin typeface="Verdana"/>
              </a:rPr>
              <a:t>; </a:t>
            </a:r>
            <a:r>
              <a:rPr b="1" i="1" lang="ru-RU" sz="2000" spc="-1" strike="noStrike">
                <a:solidFill>
                  <a:srgbClr val="00cc00"/>
                </a:solidFill>
                <a:latin typeface="Verdana"/>
              </a:rPr>
              <a:t>b</a:t>
            </a:r>
            <a:r>
              <a:rPr b="1" lang="ru-RU" sz="2000" spc="-1" strike="noStrike">
                <a:solidFill>
                  <a:srgbClr val="00cc00"/>
                </a:solidFill>
                <a:latin typeface="Verdana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ункция достигает либо на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концах отрезк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либо в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критических точках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лежащих на этом отрезк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222"/>
          <p:cNvPicPr/>
          <p:nvPr/>
        </p:nvPicPr>
        <p:blipFill>
          <a:blip r:embed="rId2"/>
          <a:stretch/>
        </p:blipFill>
        <p:spPr>
          <a:xfrm>
            <a:off x="250920" y="4508640"/>
            <a:ext cx="1944720" cy="1726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4"/>
          <p:cNvPicPr/>
          <p:nvPr/>
        </p:nvPicPr>
        <p:blipFill>
          <a:blip r:embed="rId3"/>
          <a:stretch/>
        </p:blipFill>
        <p:spPr>
          <a:xfrm>
            <a:off x="2484360" y="2565360"/>
            <a:ext cx="2160720" cy="1785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Копия шаблон"/>
          <p:cNvPicPr/>
          <p:nvPr/>
        </p:nvPicPr>
        <p:blipFill>
          <a:blip r:embed="rId4"/>
          <a:stretch/>
        </p:blipFill>
        <p:spPr>
          <a:xfrm>
            <a:off x="2484360" y="4508640"/>
            <a:ext cx="2125800" cy="1800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55"/>
          <p:cNvPicPr/>
          <p:nvPr/>
        </p:nvPicPr>
        <p:blipFill>
          <a:blip r:embed="rId5"/>
          <a:stretch/>
        </p:blipFill>
        <p:spPr>
          <a:xfrm>
            <a:off x="4859280" y="2637000"/>
            <a:ext cx="4032360" cy="3614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2345"/>
          <p:cNvPicPr/>
          <p:nvPr/>
        </p:nvPicPr>
        <p:blipFill>
          <a:blip r:embed="rId6"/>
          <a:stretch/>
        </p:blipFill>
        <p:spPr>
          <a:xfrm>
            <a:off x="250920" y="2492280"/>
            <a:ext cx="1944720" cy="18003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"/>
          <p:cNvSpPr/>
          <p:nvPr/>
        </p:nvSpPr>
        <p:spPr>
          <a:xfrm>
            <a:off x="684360" y="620640"/>
            <a:ext cx="7848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нализируйте все рассмотренные случаи. В каких точках функция достиг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большего (наименьшего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начени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95280" y="260280"/>
            <a:ext cx="806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лгоритм нахождения наибольшего и наименьшего значения функции н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[a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68360" y="1916280"/>
            <a:ext cx="8064360" cy="271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ритические то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ункции на                                интервале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ычислить значения функ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найденных критических точках и на концах отрезка,   т. е. в точках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х = а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и всех вычисленных значениях функции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ыбрать наибольшее и наименьше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539640" y="5516640"/>
            <a:ext cx="403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большее знач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1692360" y="6093000"/>
            <a:ext cx="1439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7"/>
              <p:cNvSpPr txBox="1"/>
              <p:nvPr/>
            </p:nvSpPr>
            <p:spPr>
              <a:xfrm>
                <a:off x="1919160" y="6093000"/>
                <a:ext cx="1054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;</m:t>
                            </m:r>
                            <m:r>
                              <m:t xml:space="preserve">b</m:t>
                            </m:r>
                          </m:e>
                        </m:d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Text Box 19"/>
          <p:cNvSpPr/>
          <p:nvPr/>
        </p:nvSpPr>
        <p:spPr>
          <a:xfrm>
            <a:off x="4859280" y="5516640"/>
            <a:ext cx="381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меньшее знач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5559480" y="6111720"/>
            <a:ext cx="1388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1"/>
              <p:cNvSpPr txBox="1"/>
              <p:nvPr/>
            </p:nvSpPr>
            <p:spPr>
              <a:xfrm>
                <a:off x="5508720" y="6093000"/>
                <a:ext cx="15127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;</m:t>
                            </m:r>
                            <m:r>
                              <m:t xml:space="preserve">b</m:t>
                            </m:r>
                          </m:e>
                        </m:d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2340000" y="321300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8"/>
              <p:cNvSpPr txBox="1"/>
              <p:nvPr/>
            </p:nvSpPr>
            <p:spPr>
              <a:xfrm>
                <a:off x="2419200" y="37195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0" name="Text Box 41"/>
          <p:cNvSpPr/>
          <p:nvPr/>
        </p:nvSpPr>
        <p:spPr>
          <a:xfrm>
            <a:off x="684360" y="40464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дач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2700360" y="40464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3" descr="888"/>
          <p:cNvPicPr/>
          <p:nvPr/>
        </p:nvPicPr>
        <p:blipFill>
          <a:blip r:embed="rId2"/>
          <a:stretch/>
        </p:blipFill>
        <p:spPr>
          <a:xfrm>
            <a:off x="2268360" y="189000"/>
            <a:ext cx="5688360" cy="890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4" descr="87"/>
          <p:cNvPicPr/>
          <p:nvPr/>
        </p:nvPicPr>
        <p:blipFill>
          <a:blip r:embed="rId3"/>
          <a:stretch/>
        </p:blipFill>
        <p:spPr>
          <a:xfrm>
            <a:off x="1042920" y="1268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5148360" y="1125360"/>
            <a:ext cx="718920" cy="287640"/>
          </a:xfrm>
          <a:prstGeom prst="rect">
            <a:avLst/>
          </a:prstGeom>
          <a:solidFill>
            <a:srgbClr val="f490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67"/>
          <p:cNvPicPr/>
          <p:nvPr/>
        </p:nvPicPr>
        <p:blipFill>
          <a:blip r:embed="rId2"/>
          <a:stretch/>
        </p:blipFill>
        <p:spPr>
          <a:xfrm>
            <a:off x="1403280" y="260280"/>
            <a:ext cx="6193080" cy="6264360"/>
          </a:xfrm>
          <a:prstGeom prst="rect">
            <a:avLst/>
          </a:prstGeom>
          <a:ln w="0">
            <a:noFill/>
          </a:ln>
        </p:spPr>
      </p:pic>
      <p:sp>
        <p:nvSpPr>
          <p:cNvPr id="407" name="Line 12"/>
          <p:cNvSpPr/>
          <p:nvPr/>
        </p:nvSpPr>
        <p:spPr>
          <a:xfrm>
            <a:off x="5292720" y="148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4572000" y="5877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нек"/>
          <p:cNvPicPr/>
          <p:nvPr/>
        </p:nvPicPr>
        <p:blipFill>
          <a:blip r:embed="rId2"/>
          <a:stretch/>
        </p:blipFill>
        <p:spPr>
          <a:xfrm>
            <a:off x="1042920" y="488880"/>
            <a:ext cx="712944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7"/>
          <p:cNvSpPr txBox="1"/>
          <p:nvPr/>
        </p:nvSpPr>
        <p:spPr>
          <a:xfrm>
            <a:off x="468360" y="260280"/>
            <a:ext cx="806436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8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: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ее и наименьшее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я функции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отрезке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er"/>
          <p:cNvPicPr/>
          <p:nvPr/>
        </p:nvPicPr>
        <p:blipFill>
          <a:blip r:embed="rId2"/>
          <a:stretch/>
        </p:blipFill>
        <p:spPr>
          <a:xfrm>
            <a:off x="179280" y="2421000"/>
            <a:ext cx="4023000" cy="35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ert"/>
          <p:cNvPicPr/>
          <p:nvPr/>
        </p:nvPicPr>
        <p:blipFill>
          <a:blip r:embed="rId3"/>
          <a:stretch/>
        </p:blipFill>
        <p:spPr>
          <a:xfrm>
            <a:off x="4427640" y="2421000"/>
            <a:ext cx="4500360" cy="35290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395280" y="333360"/>
            <a:ext cx="8424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. Можно ли по этому графику найти в какой точке функция достиг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большего  (наименьшего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начений?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твет обоснуйт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наибольшее значение функ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979640" y="692280"/>
            <a:ext cx="518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ГЭ 2018г, задание 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Объект 6"/>
              <p:cNvSpPr txBox="1"/>
              <p:nvPr/>
            </p:nvSpPr>
            <p:spPr>
              <a:xfrm>
                <a:off x="755640" y="4005360"/>
                <a:ext cx="789624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2124000" y="692280"/>
            <a:ext cx="49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мостоятельная рабо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qqq"/>
          <p:cNvPicPr/>
          <p:nvPr/>
        </p:nvPicPr>
        <p:blipFill>
          <a:blip r:embed="rId2"/>
          <a:stretch/>
        </p:blipFill>
        <p:spPr>
          <a:xfrm>
            <a:off x="826920" y="2060640"/>
            <a:ext cx="7653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8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324000" y="5394240"/>
            <a:ext cx="8280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;3]. График её производной изображен на рисунке.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промежутки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зрастания и убывани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функции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f(x)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84" descr="0"/>
          <p:cNvPicPr/>
          <p:nvPr/>
        </p:nvPicPr>
        <p:blipFill>
          <a:blip r:embed="rId2"/>
          <a:stretch/>
        </p:blipFill>
        <p:spPr>
          <a:xfrm>
            <a:off x="755640" y="333360"/>
            <a:ext cx="7416720" cy="4703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86"/>
          <p:cNvSpPr/>
          <p:nvPr/>
        </p:nvSpPr>
        <p:spPr>
          <a:xfrm>
            <a:off x="3851280" y="126828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87"/>
              <p:cNvSpPr txBox="1"/>
              <p:nvPr/>
            </p:nvSpPr>
            <p:spPr>
              <a:xfrm>
                <a:off x="3132000" y="1125360"/>
                <a:ext cx="18003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250920" y="5229360"/>
            <a:ext cx="86421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5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]. График её производной изображен на рисунке.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 точки максимума и минимума функции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f(x)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8" descr="00"/>
          <p:cNvPicPr/>
          <p:nvPr/>
        </p:nvPicPr>
        <p:blipFill>
          <a:blip r:embed="rId2"/>
          <a:stretch/>
        </p:blipFill>
        <p:spPr>
          <a:xfrm>
            <a:off x="1258920" y="333360"/>
            <a:ext cx="6481800" cy="44514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50"/>
              <p:cNvSpPr txBox="1"/>
              <p:nvPr/>
            </p:nvSpPr>
            <p:spPr>
              <a:xfrm>
                <a:off x="2556000" y="1125360"/>
                <a:ext cx="15112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6"/>
          <p:cNvSpPr/>
          <p:nvPr/>
        </p:nvSpPr>
        <p:spPr>
          <a:xfrm>
            <a:off x="539640" y="5084640"/>
            <a:ext cx="8064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;4]. График её производной изображен на рисунке. Определите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сколько существует точек на графике функции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f(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х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)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, касательные в которых параллельны прямой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Verdana"/>
              </a:rPr>
              <a:t>y = 5 – 2x</a:t>
            </a:r>
            <a:r>
              <a:rPr b="1" i="1" lang="ru-RU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8" descr="09"/>
          <p:cNvPicPr/>
          <p:nvPr/>
        </p:nvPicPr>
        <p:blipFill>
          <a:blip r:embed="rId2"/>
          <a:stretch/>
        </p:blipFill>
        <p:spPr>
          <a:xfrm>
            <a:off x="539640" y="260280"/>
            <a:ext cx="8064720" cy="454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4" name="Object 50"/>
              <p:cNvSpPr txBox="1"/>
              <p:nvPr/>
            </p:nvSpPr>
            <p:spPr>
              <a:xfrm>
                <a:off x="1476360" y="549360"/>
                <a:ext cx="1511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1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46087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468360" y="5300640"/>
            <a:ext cx="82090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;6]. Её график  изображен на рисунке.  Найдите точки минимума функции.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 точки в которых её производная равна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1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478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9"/>
          <p:cNvSpPr/>
          <p:nvPr/>
        </p:nvSpPr>
        <p:spPr>
          <a:xfrm>
            <a:off x="539640" y="5229360"/>
            <a:ext cx="82090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;6]. Её график  изображен на рисунке. Найдите точки максимума функции. 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 точки в которых  производная этой функции не существу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1234a"/>
          <p:cNvPicPr/>
          <p:nvPr/>
        </p:nvPicPr>
        <p:blipFill>
          <a:blip r:embed="rId2"/>
          <a:stretch/>
        </p:blipFill>
        <p:spPr>
          <a:xfrm>
            <a:off x="1187280" y="1484280"/>
            <a:ext cx="2880000" cy="2443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1234b"/>
          <p:cNvPicPr/>
          <p:nvPr/>
        </p:nvPicPr>
        <p:blipFill>
          <a:blip r:embed="rId3"/>
          <a:stretch/>
        </p:blipFill>
        <p:spPr>
          <a:xfrm>
            <a:off x="5003640" y="1484280"/>
            <a:ext cx="2880000" cy="244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11234c"/>
          <p:cNvPicPr/>
          <p:nvPr/>
        </p:nvPicPr>
        <p:blipFill>
          <a:blip r:embed="rId4"/>
          <a:stretch/>
        </p:blipFill>
        <p:spPr>
          <a:xfrm>
            <a:off x="1258920" y="4149720"/>
            <a:ext cx="2808360" cy="2382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234"/>
          <p:cNvPicPr/>
          <p:nvPr/>
        </p:nvPicPr>
        <p:blipFill>
          <a:blip r:embed="rId5"/>
          <a:stretch/>
        </p:blipFill>
        <p:spPr>
          <a:xfrm>
            <a:off x="5076720" y="4149720"/>
            <a:ext cx="2808360" cy="23828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9"/>
          <p:cNvSpPr/>
          <p:nvPr/>
        </p:nvSpPr>
        <p:spPr>
          <a:xfrm>
            <a:off x="826920" y="189000"/>
            <a:ext cx="73454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 каком рисунке изображен график фун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395280" y="2492280"/>
            <a:ext cx="50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468360" y="5084640"/>
            <a:ext cx="50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4284720" y="2492280"/>
            <a:ext cx="43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4356000" y="5084640"/>
            <a:ext cx="50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4" descr="1177"/>
          <p:cNvPicPr/>
          <p:nvPr/>
        </p:nvPicPr>
        <p:blipFill>
          <a:blip r:embed="rId6"/>
          <a:stretch/>
        </p:blipFill>
        <p:spPr>
          <a:xfrm>
            <a:off x="2916360" y="549360"/>
            <a:ext cx="23032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755640" y="1197000"/>
            <a:ext cx="7848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timum -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аилучший"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01:39Z</dcterms:created>
  <dc:creator>maks</dc:creator>
  <dc:description/>
  <dc:language>en-US</dc:language>
  <cp:lastModifiedBy>Надежда</cp:lastModifiedBy>
  <dcterms:modified xsi:type="dcterms:W3CDTF">2018-07-15T05:22:13Z</dcterms:modified>
  <cp:revision>37</cp:revision>
  <dc:subject/>
  <dc:title>Слайд 1</dc:title>
</cp:coreProperties>
</file>